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63F0-FF20-4298-9801-53E3E94A8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712-1C9B-4B71-830D-FAB22633D0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1618-96A5-44FC-8AA4-195DD4143B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948C-CF20-498A-86D4-C3BF7D4539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58E-06A6-4267-9BCF-4AC979D0BF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5E0B-27B8-4633-B73B-03618EDFAD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D25-B028-499B-9258-AED81878EA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DDC5-4579-4CCA-A133-E12199353D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00A0-DD7B-47C3-AD29-CD490D1EC6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CF85-670A-4E19-ACDE-7A956FF384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405-CA9A-4C7F-9B2F-A1309C68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AC3-17AB-43D2-A47C-AB49127B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0BE-E086-4ACF-97B8-9EA1C5D9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EAF-FFBF-4835-9C32-D967A773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4549-4449-438C-B0D2-CEE54D24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C6BC-B6A2-4D7D-9CE6-E9D066D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0DB3-F197-4C94-8C8A-2ED27F4D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351C-4233-41D0-A628-31B62AB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76E9-52E2-4D58-862E-DF48ECCE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25E-ACF6-45E0-9E03-616E2C1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E97-7E73-400C-8A24-7C384BE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9AF-05D7-4404-A7D1-7613142E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0DC-C849-46AA-AF18-6E61324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371D-CE72-4FD0-913B-62194B1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116-5F46-410D-ABC7-368B51F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644-3E79-48D8-BE99-24F27980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FCD-7475-4E1C-800C-0759C9EB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E5D3-9F6B-45E6-9081-44D70929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00BF-213E-4BAF-8BC2-DCCD709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D92B-C587-4B3F-9B3A-E26433B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91D5-DF0B-49A7-829F-2D69C21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AAAA-8D8E-4A20-B2F8-6A92C29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F54-BF82-4592-998F-D621ECAE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EC62-F937-4D6F-8DA7-02F3DD51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23C8-7434-4487-BE5B-07F0623A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D7E3-4C25-4230-8226-9253F1D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DA65-0621-4291-9D75-60D4BE8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8066-2EC7-4ED1-9A00-F46FBD4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78DE-528F-4BF2-BB9C-3EEBA1E9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D86A-CA4B-4C29-9589-A59F078D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403F-77B3-4BBC-836E-86AC877A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CB82-1D22-403A-BC7E-C32A9515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09F8-43E0-4F05-B385-6A3C6434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428-3E68-4259-B762-8509F7B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2399-0536-441E-8102-C75D077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098D-A78D-4E25-9A78-699482B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16E0-B0EE-4665-B326-A19334C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85E6-4141-4A9B-8EC4-26BA6CC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DC3B-09B6-4E3C-A9C7-7AE5ACC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8E9F-CCD5-4BCE-8B0C-31216C6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3726-1781-450A-BF44-182821C8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AE8A-90A8-4261-8232-D71ACBAE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FCFB-7543-4620-BE7E-EF251FFB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3C9A-10B2-4AF0-86A6-482C8DF8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272-3412-4D5C-A7C8-553BB369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3F97-7E94-4F43-AADE-55FE6D8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0166D-5B06-42E7-91A5-9A3ECC1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33D5-A4B3-40F6-B3FA-46D6827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B0C0-C1CE-472D-B808-EB1E8B7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F9D6-DA06-4AA3-BC69-A7D15BF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FAE18-6A63-45C0-A45C-81A9581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58CA-B16F-4E1B-9C24-22E788F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3478-E79E-45A4-BA57-CF9CC06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424E-3E8C-4E1A-B7DC-77EF8396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4C5A-9E61-4DC7-86AC-3E076E54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E0A-0021-4575-BF2B-CCBD960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BFBF-87D9-4A47-B04A-E6AD2383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3591-EB63-40CF-AA59-89D7CD59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30A4-134A-40F3-AC4C-5510D39C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17F1-D574-4CA4-A471-CA80EBF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27C0-FBD8-434C-BF2B-DEC8FB8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4535-40D0-4AE5-B5BE-05AB9372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D8010-C4A2-4C9F-B3E1-A3B17E9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DE0EB-ADA6-4C10-982B-D9545EF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138C-A2B0-4073-A520-9C4F6F6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719E-D690-48C5-9E44-C3E7C5B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4AA-8F32-4A9B-88C7-C9B70531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B28B-E8D6-41AD-B21F-86D73BF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B7771-6BB7-4CEE-A13E-16D5D09A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CF9A-5EBB-40CF-BA1E-5CF424D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A5A-AE29-4BF7-93E8-713C5E8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8C6-1176-4037-B25C-56A62BB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78F1-B517-4551-A377-8A9D56625BD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31BF-6099-4EC5-A73B-B323BA2E3A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D666-A50F-41E9-9489-D429B15527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239E-3391-41B7-8622-551F7C10CD3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11FA-753B-4C79-8B8F-0E47C9201BE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4686-C96C-4257-B4C6-2FFA66F8B42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google.ro/imgres?imgurl=http://felicitari.sentimente.ro/index/watermark%3Fsource%3D48%257Cilbuongiornosivededalfelino.jpg&amp;imgrefurl=http://felicitari.sentimente.ro/horoscop/buna_dimineata_soare_---1397.html&amp;usg=__wMel9wdUFwWUAN8JwSsndKfE2hA=&amp;h=300&amp;w=383&amp;sz=23&amp;hl=ro&amp;start=4&amp;zoom=1&amp;um=1&amp;itbs=1&amp;tbnid=GJI4E6wMYHjt9M:&amp;tbnh=96&amp;tbnw=123&amp;prev=/images%3Fq%3Dsoare%26um%3D1%26hl%3Dro%26rlz%3D1W1ACAW_enRO319%26tbs%3Disch:1&amp;ei=nB43Td6pL8SBOsP2ld8C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agp.ro/ro/energii/imagini/moara_de_vant_pentru_irigatii.jpg&amp;imgrefurl=http://www.agp.ro/ro/energia_eoliana/&amp;usg=__09_hlS0ymnsGncOh5_AwSvZsgPA=&amp;h=500&amp;w=667&amp;sz=337&amp;hl=ro&amp;start=6&amp;zoom=1&amp;um=1&amp;itbs=1&amp;tbnid=MVOlrsqdblwxPM:&amp;tbnh=103&amp;tbnw=138&amp;prev=/images%3Fq%3Dmoara%2Bde%2Bvant%26um%3D1%26hl%3Dro%26rlz%3D1W1ACAW_enRO319%26tbs%3Disch:1&amp;ei=SSA3TZqZEMSBOtLDidIC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4/Wind_2006andprediction_en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8" descr=""/>
          <p:cNvPicPr/>
          <p:nvPr/>
        </p:nvPicPr>
        <p:blipFill>
          <a:blip r:embed="rId1"/>
          <a:stretch/>
        </p:blipFill>
        <p:spPr>
          <a:xfrm>
            <a:off x="2567160" y="2054160"/>
            <a:ext cx="3608280" cy="9748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9" descr=""/>
          <p:cNvPicPr/>
          <p:nvPr/>
        </p:nvPicPr>
        <p:blipFill>
          <a:blip r:embed="rId2"/>
          <a:stretch/>
        </p:blipFill>
        <p:spPr>
          <a:xfrm>
            <a:off x="1311120" y="2371680"/>
            <a:ext cx="6302520" cy="11826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12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4352760" cy="13046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2811240" y="5562720"/>
            <a:ext cx="35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charest 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676160" y="22860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ala cu clasele I-VI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r.186  Elena V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c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535680" y="3809880"/>
            <a:ext cx="40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udor GEORG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www.marketwatch.ro/mw/pics/images/image/mw97/Energie_eoliana.jpg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thumb31895059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9166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492480" y="0"/>
            <a:ext cx="736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renewa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their supplies are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Coal, petroleum, natural g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e, uraniu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14400" y="5562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newable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naturally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iomass, geothermal energy, hydropower, solar energy, and wi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TextBox 3" descr=""/>
          <p:cNvPicPr/>
          <p:nvPr/>
        </p:nvPicPr>
        <p:blipFill>
          <a:blip r:embed="rId3"/>
          <a:stretch/>
        </p:blipFill>
        <p:spPr>
          <a:xfrm>
            <a:off x="1596960" y="3255840"/>
            <a:ext cx="5926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hart of Energy Consumption by Source, 2009 with biomass=4.1%, hydropower=2.8%, geothermal=0.4%, wind=0.7%, solar and other =0.1%, petroleum=37.3%, natural gas=24.7%, coal=20.9%, uranium=8.8%"/>
          <p:cNvPicPr/>
          <p:nvPr/>
        </p:nvPicPr>
        <p:blipFill>
          <a:blip r:embed="rId1"/>
          <a:stretch/>
        </p:blipFill>
        <p:spPr>
          <a:xfrm>
            <a:off x="59544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6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6632640" cy="1146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1850760" y="22107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newable energy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062240" y="31240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 by the wi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Rectangle 9" descr=""/>
          <p:cNvPicPr/>
          <p:nvPr/>
        </p:nvPicPr>
        <p:blipFill>
          <a:blip r:embed="rId2"/>
          <a:stretch/>
        </p:blipFill>
        <p:spPr>
          <a:xfrm>
            <a:off x="73080" y="3906720"/>
            <a:ext cx="2066760" cy="866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0"/>
          <p:cNvSpPr/>
          <p:nvPr/>
        </p:nvSpPr>
        <p:spPr>
          <a:xfrm>
            <a:off x="47160" y="4952880"/>
            <a:ext cx="910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ir movement due to irregular warming of Earth sur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su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3" descr="http://t0.gstatic.com/images?q=tbn:GJI4E6wMYHjt9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5791320"/>
            <a:ext cx="86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2593 0.01354 -0.01736 0.0368 -0.01389 C 0.03941 -0.01042 0.0427 -0.00764 0.04479 -0.00347 C 0.04878 0.00463 0.05086 0.02453 0.0552 0.03171 C 0.05711 0.03495 0.06059 0.03634 0.06319 0.03866 C 0.07326 0.03194 0.08281 0.02963 0.09201 0.02106 C 0.09392 0.01389 0.09809 -0.01459 0.1052 -0.02107 C 0.10816 -0.02384 0.11232 -0.02338 0.11579 -0.02454 C 0.12187 -0.02222 0.12864 -0.02153 0.1342 -0.01736 C 0.13698 -0.01528 0.13732 -0.01019 0.13941 -0.00695 C 0.14809 0.00625 0.15798 0.01759 0.16579 0.03171 C 0.17847 0.0544 0.17361 0.0544 0.19201 0.06666 C 0.20086 0.06435 0.21007 0.06435 0.2184 0.05972 C 0.22326 0.05694 0.22552 0.03958 0.22621 0.03518 C 0.22899 0.01574 0.22864 0.00231 0.2368 -0.01389 C 0.2618 -0.01227 0.29079 -0.02547 0.3052 0.00347 C 0.30607 0.00926 0.30659 0.01528 0.30781 0.02106 C 0.30937 0.02824 0.31319 0.04213 0.31319 0.04213 C 0.33611 0.03194 0.33003 0.00509 0.34479 -0.01389 C 0.36823 -0.01042 0.3802 -0.0081 0.39739 0.01412 C 0.4 0.02453 0.4026 0.03518 0.4052 0.0456 C 0.40607 0.04907 0.40694 0.05278 0.40781 0.05625 C 0.40868 0.05972 0.41041 0.06666 0.41041 0.06666 C 0.42013 0.06319 0.43003 0.06088 0.43941 0.05625 C 0.44166 0.05509 0.4427 0.05092 0.44479 0.0493 C 0.44722 0.04745 0.45 0.04676 0.4526 0.0456 C 0.45972 0.0331 0.46961 0.02361 0.47621 0.01065 C 0.48177 -0.000229999999999999 0.48524 -0.01158 0.49201 -0.02107 C 0.50763 0.00995 0.48402 -0.03912 0.5026 0.01065 C 0.50538 0.01828 0.51041 0.02407 0.51319 0.03171 C 0.52048 0.05139 0.52934 0.06342 0.54479 0.07014 C 0.55711 0.06898 0.57013 0.07268 0.58159 0.06666 C 0.58802 0.06342 0.59236 0.04444 0.59479 0.03518 C 0.59566 0.02708 0.59583 0.01875 0.59739 0.01065 C 0.59948 -0.000229999999999999 0.6052 -0.02107 0.6052 -0.02107 C 0.61041 -0.01158 0.61562 -0.00232 0.621 0.00717 C 0.62361 0.0118 0.62899 0.02106 0.62899 0.02106 C 0.63611 0.05023 0.66145 0.03148 0.68159 0.02824 C 0.69392 0.0169 0.69513 0.00926 0.7 -0.01042 C 0.70086 -0.01389 0.7026 -0.02107 0.7026 -0.02107 C 0.69913 -0.05301 0.70086 -0.0794 0.6842 -0.10162 C 0.68211 -0.11783 0.68263 -0.13218 0.67361 -0.14375 C 0.67083 -0.18056 0.67204 -0.19769 0.6526 -0.22454 C 0.64739 -0.24537 0.63941 -0.24537 0.62621 -0.25602 C 0.62083 -0.26042 0.61041 -0.27014 0.61041 -0.27014 C 0.59496 -0.2632 0.61007 -0.27084 0.58941 -0.25602 C 0.58246 -0.25116 0.5684 -0.24213 0.5684 -0.24213 C 0.56579 -0.23866 0.56284 -0.23542 0.56041 -0.23148 C 0.55833 -0.22824 0.55816 -0.22269 0.5552 -0.22107 C 0.5526 -0.21968 0.55 -0.22338 0.54739 -0.22454 C 0.53454 -0.24121 0.51979 -0.25903 0.5026 -0.26667 C 0.4802 -0.24514 0.48958 -0.25625 0.47361 -0.23496 C 0.46475 -0.21111 0.45989 -0.19028 0.4552 -0.16482 C 0.44392 -0.17222 0.43177 -0.18334 0.42361 -0.19653 C 0.42152 -0.19977 0.42048 -0.20371 0.4184 -0.20695 C 0.41423 -0.2132 0.40868 -0.21759 0.4052 -0.22454 C 0.40347 -0.22801 0.40243 -0.23241 0.4 -0.23496 C 0.39097 -0.24445 0.37725 -0.24051 0.36579 -0.24213 C 0.35781 -0.24097 0.34982 -0.24097 0.34201 -0.23843 C 0.32482 -0.23264 0.32118 -0.18009 0.3184 -0.16134 C 0.30763 -0.1831 0.29218 -0.19259 0.27621 -0.20695 C 0.27309 -0.20972 0.27066 -0.21343 0.2684 -0.21736 C 0.26458 -0.22408 0.25781 -0.23843 0.25781 -0.23843 C 0.25052 -0.26829 0.23368 -0.25463 0.21041 -0.25255 C 0.20729 -0.23982 0.20573 -0.22662 0.2026 -0.21389 C 0.20173 -0.20116 0.20104 -0.1882 0.2 -0.17547 C 0.1993 -0.16713 0.20208 -0.15602 0.19739 -0.1507 C 0.1934 -0.14607 0.1868 -0.15324 0.18159 -0.1544 C 0.17274 -0.16597 0.16788 -0.17824 0.16319 -0.19283 C 0.16163 -0.19769 0.15937 -0.20209 0.15781 -0.20695 C 0.15677 -0.21042 0.15746 -0.21528 0.1552 -0.21736 C 0.14722 -0.22408 0.13767 -0.22685 0.12899 -0.23148 C 0.11493 -0.23912 0.10468 -0.2456 0.08941 -0.24908 C 0.08507 -0.24676 0.07934 -0.24676 0.07621 -0.24213 C 0.07257 -0.23658 0.07274 -0.22801 0.071 -0.22107 C 0.07013 -0.21759 0.0684 -0.21042 0.0684 -0.21042 C 0.07118 -0.18009 0.071 -0.1919 0.071 -0.17547 E">
                                      <p:cBhvr>
                                        <p:cTn id="6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://t1.gstatic.com/images?q=tbn:MVOlrsqdblwxP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09480" y="33480"/>
            <a:ext cx="9753480" cy="682452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4" descr=""/>
          <p:cNvPicPr/>
          <p:nvPr/>
        </p:nvPicPr>
        <p:blipFill>
          <a:blip r:embed="rId3"/>
          <a:stretch/>
        </p:blipFill>
        <p:spPr>
          <a:xfrm>
            <a:off x="-201600" y="-109440"/>
            <a:ext cx="5456160" cy="7617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4054680" y="69696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Oldest Windmills Were in Ancient Per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372200" y="1182600"/>
            <a:ext cx="47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early as 5000 B.C-Wind energy propel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s along the Nile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319200" y="206856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 B.C.-simple windmills in China were pumping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3160800" y="2666880"/>
            <a:ext cx="61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rsia and the Middle East – windmills for grinding g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3823920" y="3124080"/>
            <a:ext cx="54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th century, people in the Middle East were us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mills extensively for food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3765600" y="408636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ing merchants carried this idea back to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1946880" y="480060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utch refined the windmill and adapted it for draining lak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hes in the Rhine River De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2851560" y="55627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 th century - settlers took this technology to the New Wor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7"/>
          <p:cNvSpPr/>
          <p:nvPr/>
        </p:nvSpPr>
        <p:spPr>
          <a:xfrm>
            <a:off x="2544480" y="621180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mills us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ump water for farms and ranch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electricity for homes and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18"/>
          <p:cNvSpPr/>
          <p:nvPr/>
        </p:nvSpPr>
        <p:spPr>
          <a:xfrm>
            <a:off x="6095880" y="369396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Down Arrow 19"/>
          <p:cNvSpPr/>
          <p:nvPr/>
        </p:nvSpPr>
        <p:spPr>
          <a:xfrm>
            <a:off x="6095880" y="44560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Down Arrow 20"/>
          <p:cNvSpPr/>
          <p:nvPr/>
        </p:nvSpPr>
        <p:spPr>
          <a:xfrm>
            <a:off x="5715000" y="5867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0" y="0"/>
          <a:ext cx="4329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29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HOW  DOES WIND TURBINES WOR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572000" y="1523880"/>
            <a:ext cx="457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 turbines work on the same principle as ancient windmills : the kinetic energy of the wind rotates the palettes of a propeller with transforms this kinetic energy into electricity by means of a gener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C:\My Documents\My Pictures\windrotor.gif"/>
          <p:cNvPicPr/>
          <p:nvPr/>
        </p:nvPicPr>
        <p:blipFill>
          <a:blip r:embed="rId3"/>
          <a:stretch/>
        </p:blipFill>
        <p:spPr>
          <a:xfrm>
            <a:off x="2590920" y="2819520"/>
            <a:ext cx="2395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Fișier:Wind 2006andprediction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743200" y="83664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 energy production increased 5 times between 1999 and 200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the end of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2006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lds capacity of wind generators produced more than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 %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global need of electrical energ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1" descr=""/>
          <p:cNvPicPr/>
          <p:nvPr/>
        </p:nvPicPr>
        <p:blipFill>
          <a:blip r:embed="rId1"/>
          <a:stretch/>
        </p:blipFill>
        <p:spPr>
          <a:xfrm>
            <a:off x="-695160" y="-639720"/>
            <a:ext cx="4316400" cy="29192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2"/>
          <p:cNvSpPr/>
          <p:nvPr/>
        </p:nvSpPr>
        <p:spPr>
          <a:xfrm>
            <a:off x="2819520" y="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Zero emission of pollutant substances and gases with greenhouse effect because no combustion takes plac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1762200" y="971640"/>
            <a:ext cx="31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No waste are produced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57200" y="1447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duced costs for  the produced energy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68720" y="198108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reduced  costs for their dis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4920" y="25146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ffffff"/>
                </a:solidFill>
                <a:latin typeface="Arial"/>
              </a:rPr>
              <a:t>95% of the land assigned  to wind fa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ffffff"/>
                </a:solidFill>
                <a:latin typeface="Arial"/>
              </a:rPr>
              <a:t>can be also used for other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U:\Pictures\wind-switch.jpg"/>
          <p:cNvPicPr/>
          <p:nvPr/>
        </p:nvPicPr>
        <p:blipFill>
          <a:blip r:embed="rId2"/>
          <a:stretch/>
        </p:blipFill>
        <p:spPr>
          <a:xfrm>
            <a:off x="6019920" y="83808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19" descr=""/>
          <p:cNvPicPr/>
          <p:nvPr/>
        </p:nvPicPr>
        <p:blipFill>
          <a:blip r:embed="rId3"/>
          <a:stretch/>
        </p:blipFill>
        <p:spPr>
          <a:xfrm>
            <a:off x="-847800" y="2432160"/>
            <a:ext cx="5334120" cy="3346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2819520" y="38862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pollution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"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,.e. unpleasant 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is pollution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"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noisy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828800" y="46483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ffect the medium and the surrounding ecosystems , killing birds and employing huge vacant lands for their instal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457200" y="5791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damage from storms, if the wind speeds exceed the limits permitted by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228600" y="24768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ro.wikipedia.org/wiki/Energie_eolian%C4%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energie-eoliana.com/energia-eoliana-notiuni-generale-despre-energia-eoliana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237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http://www.eia.doe.gov/kids/energy.cfm?page=about_sources_of_energy-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28600" y="4038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ia.doe.gov/kids/energy.cfm?page=wind_home-bas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</cp:lastModifiedBy>
  <dcterms:modified xsi:type="dcterms:W3CDTF">2011-01-29T20:33:05Z</dcterms:modified>
  <cp:revision>51</cp:revision>
  <dc:subject/>
  <dc:title>Slide 1</dc:title>
</cp:coreProperties>
</file>